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848850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A622C8-48CE-4804-BC0F-CF0A48D86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mmary Foilset for O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Key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PCD started distributing the Bus Master IDE drivers worldw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on 3-22-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Benchmarks show Bus Master improvement over P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Lowers CPU U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Increases Video Playback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Provides Scalability when adding dr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PCD encourages OEMs to validate and ship these drivers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maximum system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OEMs should use PCD drivers now and switch to Microsoft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drivers when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Importance of Bus Master to Pentium(R) Pro processo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should be understood and awareness raised with OEMs.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upcoming </a:t>
            </a:r>
            <a:r>
              <a:rPr b="1" i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“Intel 440FX PCIset Performance Brief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(Rev 2.0) will help with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teral available to O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the 3 Drivers (WW12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OEM Foilset (WW12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DCL (WW12) (includes new auto install instructions for Windows 95*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- then, on approximately WW17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i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i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Intel 440FX PCIset Performance Brief”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v 2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ll be availabl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Intel field should continue to use the QA accounts on Notes for Qs &amp; As and working 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lease notes supplied with the drivers list w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DDs and CD-ROMs are supported. Above is a par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st summarized from the Windows 95* driv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CD tests PIO drives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’s important that OEMs ask for drives that support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le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MA Multiword 1” with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ference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DMA Multiword 2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drivers support a minimum of DMA Singleword 2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word 1 is in the middle (but better than Singleword 2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word 2 is the preferred. These are the bus mastering dr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EMs should validate the Bus Master drivers on the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figured systems before ship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C magazines are showing benchmarks that Bus Master can help: example se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C Magazine*, April 23, 1996, “Hot Home PC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nchmarks listed in this article are  “Frames Dropped” and “CPU Utilization”. These are some of the benchmarks that Bus Master IDE improv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Driver Version numbers included in this releas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ndows 95* Driver - version 2.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ndows NT* Driver - version 1.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BM OS/2* Driver       - version 2.0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EMs should use these drivers for the platforms no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b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e 3.5“ diskette can hold all 3 self extracting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ive Vendors (HDD and CD-ROM) will be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this latest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new auto install and uninstall work great with Windows 95*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ndows NT* and IBM OS/2* drivers still require s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ual sequences. Instructions are in the driver pack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MSHDC.INF file must be modified to add an ext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a in the text string. See Appnote for more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lative to the October ‘95 Bus Master driver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the Intel 430FX PCIset, all three of these new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ort CD-R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lease notes supplied with the drivers list w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DDs and CD-ROMs are suppo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liminary data as of 4-10-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irst “CD ROM CPU Utilization” number of 45%  is an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f generic disk transfers. With PIO the CPU Utilization was 48%,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 Master it’s 3%. The improvement is 48-3 = 45%. How to fi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Winbench ‘96* ver 1.0, Run -&gt; “Selected Tests” and look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D-ROM/CPU Util Test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“play rate” number may not be intuitive. The number sh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least 30, as in 30 frames per second (fps) for smooth video.The hu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ye will percieve interruptions (not enough screen updates)below 30 F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 Master provides headroom in the system for both hard dis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d CD-ROM configu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CD Customer Reference Board --&gt; Intel 430HX PCI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66MHz Pentium(R) processor , 256KB PB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6MB --&gt; 60ns E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ideo = DS 2020XL*, PCI,  Trio64V+ 2MB 60ns EDO*, Driver rev. 4.02.2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M - WD31200* ,  PIO Mode 4, DMA MW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 - TEAC  6x Model 102*, PIO Mode 3, DMA M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reative Labs Value SB16*, BM--&gt; 220, Irq--&gt; 9, DMA--&gt; 3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liminary data as of 4-10-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lease Note: The Pentium(R) Pro processor numbers sh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bove are running on Windows NT*, not Windows 95* a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previous foil.  No direct comparison between the two foils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plied. Code overhead and different revs of OS’s can effect the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PU Utilization explanation see the previous speake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“Intel 440FX PCIset Performance Brief”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v 2.0 will al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how the effect of multiple drives in th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liminary results show PIO performance hitting a brick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just 2 drives in system while overall disk throughput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 Master increases with additional dis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l 440FX PCIset Customer Reference Plat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MHz Pentium(R) Pro proces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2MB EDO 60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amond Stealth 64 4MB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Quantum  FB640A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“Intel 440FX PCIset Performance Brief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v 2.0 will also show that MPEG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creases with Bus Master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Windows 95* in the June/July timeframe: Microsoft* sh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hipping their own driver enhanced with a “timings.vsd”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m PCD that optimizes timings for Intel’s PCIs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EMs should not wait to ship these drivers, especially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ndows NT* driver. There can be a significant time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crosoft ships their own driver for 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Shrink Wrap licence supplied with each driver will cover O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AR for FAEs on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 slow I/O subsystem can reduce system performance drama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multitasking OSs so prevalent now, bus mastering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ke Aymar presentation at WinHEC went over well, prese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chitectures of the Future”. Mike showed a compelling demo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cluded Bus Mastering. A foilset on the Intel web site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ing Balanced Platforms” shows the platform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aving the CPU  move drive data is not a good idea. New dr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chnologies will continue to depend on DMA for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form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88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485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12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488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485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92120" y="290880"/>
            <a:ext cx="8863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7448400" y="66600"/>
            <a:ext cx="2124000" cy="3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92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l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47520" y="7077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108000" y="7101000"/>
            <a:ext cx="647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CD Mkt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064360" y="6713640"/>
            <a:ext cx="1432080" cy="569880"/>
            <a:chOff x="8064360" y="6713640"/>
            <a:chExt cx="1432080" cy="569880"/>
          </a:xfrm>
        </p:grpSpPr>
        <p:grpSp>
          <p:nvGrpSpPr>
            <p:cNvPr id="4" name=""/>
            <p:cNvGrpSpPr/>
            <p:nvPr/>
          </p:nvGrpSpPr>
          <p:grpSpPr>
            <a:xfrm>
              <a:off x="8140680" y="6713640"/>
              <a:ext cx="1193760" cy="376200"/>
              <a:chOff x="8140680" y="6713640"/>
              <a:chExt cx="1193760" cy="37620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140680" y="6713640"/>
                <a:ext cx="1179360" cy="36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161200" y="6730920"/>
                <a:ext cx="1173240" cy="35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145360" y="6721560"/>
                <a:ext cx="1177920" cy="358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" name=""/>
            <p:cNvSpPr txBox="1"/>
            <p:nvPr/>
          </p:nvSpPr>
          <p:spPr>
            <a:xfrm>
              <a:off x="8064360" y="7050240"/>
              <a:ext cx="143208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onents Division</a:t>
              </a:r>
              <a:r>
                <a:rPr b="1" i="1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47520" y="66600"/>
            <a:ext cx="824040" cy="698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279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155520" y="6497640"/>
            <a:ext cx="714240" cy="389160"/>
            <a:chOff x="155520" y="6497640"/>
            <a:chExt cx="714240" cy="389160"/>
          </a:xfrm>
        </p:grpSpPr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155520" y="6497640"/>
              <a:ext cx="58248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" name=""/>
            <p:cNvSpPr/>
            <p:nvPr/>
          </p:nvSpPr>
          <p:spPr>
            <a:xfrm>
              <a:off x="708120" y="6699240"/>
              <a:ext cx="55440" cy="7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 txBox="1"/>
            <p:nvPr/>
          </p:nvSpPr>
          <p:spPr>
            <a:xfrm>
              <a:off x="601560" y="6681960"/>
              <a:ext cx="268200" cy="20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"/>
          <p:cNvSpPr txBox="1"/>
          <p:nvPr/>
        </p:nvSpPr>
        <p:spPr>
          <a:xfrm>
            <a:off x="1123920" y="142920"/>
            <a:ext cx="3191040" cy="3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92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EM Upd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 txBox="1"/>
          <p:nvPr/>
        </p:nvSpPr>
        <p:spPr>
          <a:xfrm>
            <a:off x="6661080" y="6775560"/>
            <a:ext cx="1314360" cy="2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4-10-96      Page </a:t>
            </a:r>
            <a:fld id="{7EE7EF6E-5B4C-4AB7-96B4-A55D4C6E7DB6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 txBox="1"/>
          <p:nvPr/>
        </p:nvSpPr>
        <p:spPr>
          <a:xfrm>
            <a:off x="946080" y="6831000"/>
            <a:ext cx="44197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41320" y="878040"/>
            <a:ext cx="65311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Intel Bus Master IDE Drivers for 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Windows 95*, NT*, and IBM OS/2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028960" y="1971720"/>
            <a:ext cx="7010280" cy="39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R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s Mastering Performance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S Vendor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stem Trends toward Bus Maste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108320" y="420840"/>
            <a:ext cx="19479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43160" y="981000"/>
            <a:ext cx="777240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ivers Available to OEM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ased on 3-22-96, Available through Intel Fiel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nchmarks show Bus Master improvement over PIO and throughput gains when drives are add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l encourages OEMs to validate and ship these drivers for maximum system performance and MM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chnology Enabl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 Master i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 par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Pentium(R) Pro processor systems using the Intel 440FX PCI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 Master provides tangible performance gains and lowers CPU 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OEMs should use Intel Drivers now, then switch to Microsoft* drivers when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019240" y="458640"/>
            <a:ext cx="612468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Backup:</a:t>
            </a:r>
            <a:br>
              <a:rPr sz="2800"/>
            </a:b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us Mastering Hard Drives and CD-ROMs</a:t>
            </a:r>
            <a:br>
              <a:rPr sz="2400"/>
            </a:b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upported by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71760" y="2733840"/>
            <a:ext cx="792468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571760" y="4772160"/>
            <a:ext cx="8077320" cy="781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403280" y="4545000"/>
            <a:ext cx="24703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Bus Mastering CD-ROM Drives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2487600"/>
            <a:ext cx="2190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Bus Mastering Hard Drives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90520" y="166680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EM’s should ask for drives that suppo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 lea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DMA Multi Word 1”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ference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DMA Multi Word 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51000" y="6546960"/>
            <a:ext cx="644508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complete list of both Bus Master and PIO drives tested, refer to the README.TXT included with each d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43160" y="5553000"/>
            <a:ext cx="7696080" cy="762120"/>
          </a:xfrm>
          <a:prstGeom prst="roundRect">
            <a:avLst/>
          </a:prstGeom>
          <a:noFill/>
          <a:ln w="25560">
            <a:solidFill>
              <a:srgbClr val="0027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55920" y="5737320"/>
            <a:ext cx="73566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Significant List of Vendors offering Bus Master Dr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849840" y="420840"/>
            <a:ext cx="246528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90520" y="11336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y Point #1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nchmarks in this foilset show Bus Master improvement over 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Lowers CPU Utilization: from 48% to 3%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ncreases Video Playback Performance: better video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ovides Scalability when adding drives: more overall thoughput 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y Point #2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 Master i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 par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Pentium(R) Pro processor systems using the Intel 440FX PCI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i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EMs should use Intel Drivers now, then switch to Microsoft* drivers when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4560" y="5477040"/>
            <a:ext cx="8153280" cy="990720"/>
          </a:xfrm>
          <a:prstGeom prst="roundRect">
            <a:avLst/>
          </a:prstGeom>
          <a:noFill/>
          <a:ln w="25560">
            <a:solidFill>
              <a:srgbClr val="0027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51000" y="5661000"/>
            <a:ext cx="793260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Bus Master IDE Enhances the I/O Subsystem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of Intel PCIset based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535200" y="573120"/>
            <a:ext cx="29415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POR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14560" y="1209600"/>
            <a:ext cx="8229600" cy="52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l Inf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Drivers were Released to OEMs on March 22,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 Bus Master IDE driver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ndows 95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ndows NT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BM OS/2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rivers support: Intel 430FX, 430HX, 430VX, 440FX PCI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driver works for both 82371FB PIIX and 82371SB PIIX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EMs can preload with systems or load on their B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OEM ver of Windows 95: “MSHDC.INF” file must be modifi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 Intel PIIX3 Appnote #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crosoft Windows 95* Support for PIIX3 IDE 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ation is in English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rink Wrap License supplied with each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vers OEMs on use and distribut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865680" y="878040"/>
            <a:ext cx="27385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90520" y="189540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o Install/Uninstall for Windows 95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ple one-button install for retail and OEM version of Windows 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EM version must have MSHDC.INF file modified before 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ature Integrated into driver “.EXE”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structions are also attached to the DC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drivers have Bus Master capability for CD-R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rlier released drivers either ran CD-ROMs in PIO m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did not fully support Bus Master CD-R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ivers support a significant list of Bus Mastering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 Backup Foil for List of HDD and CD-ROM drive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490840" y="420840"/>
            <a:ext cx="5176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Performance Overview</a:t>
            </a:r>
            <a:br>
              <a:rPr sz="32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Pentium(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) processor PCI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90520" y="1362240"/>
            <a:ext cx="7848720" cy="13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 Master vs PIO in Windows 95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ing Winbench 96* and Intel 430HX PCIset eval platform w 166 MHz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enchmark and VIDEO player improvements shown below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49320" y="4200480"/>
            <a:ext cx="4122720" cy="1312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168880" y="4181400"/>
            <a:ext cx="4556160" cy="1333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943280" y="2479680"/>
            <a:ext cx="6564240" cy="1370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2317680" y="3803760"/>
            <a:ext cx="50385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te: No improvement on Winstone (0 %) since this benchmark is single tas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4560" y="5781600"/>
            <a:ext cx="8153280" cy="685800"/>
          </a:xfrm>
          <a:prstGeom prst="roundRect">
            <a:avLst/>
          </a:prstGeom>
          <a:noFill/>
          <a:ln w="25560">
            <a:solidFill>
              <a:srgbClr val="0027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327320" y="5965920"/>
            <a:ext cx="78836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Bus Master Enables Smooth Video for HDD and CD-R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246400" y="725400"/>
            <a:ext cx="567072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Performance Overview </a:t>
            </a:r>
            <a:br>
              <a:rPr sz="32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Pentium(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) Pro processor PCI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38240" y="18194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 Master vs PIO in Windows NT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Winbench 96* and Intel 440FX PCIset eval platform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727360" y="3975120"/>
            <a:ext cx="4159080" cy="1308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517760" y="2705040"/>
            <a:ext cx="6643800" cy="979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343160" y="5477040"/>
            <a:ext cx="7543800" cy="1066680"/>
          </a:xfrm>
          <a:prstGeom prst="roundRect">
            <a:avLst/>
          </a:prstGeom>
          <a:noFill/>
          <a:ln w="25560">
            <a:solidFill>
              <a:srgbClr val="0027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31880" y="5661000"/>
            <a:ext cx="693900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Bus Master offers Great Disk Performance, Low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     </a:t>
            </a: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CPU Utilization and Enables Smooth Vide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603440" y="687240"/>
            <a:ext cx="711036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Bus Master vs. PIO When Adding Drives: 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Impact on Overall 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90520" y="494352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tforms in PIO: Throughput is basically flat when drives are ad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tforms in Bus Master: Throughput improves when drives are ad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00080" y="1666800"/>
            <a:ext cx="409104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02080" y="1666800"/>
            <a:ext cx="4121280" cy="2733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631880" y="4545000"/>
            <a:ext cx="25732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l 430HX PCIset bas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899320" y="4545000"/>
            <a:ext cx="25560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l 440FX PCIset bas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61920" y="5781600"/>
            <a:ext cx="8458200" cy="762120"/>
          </a:xfrm>
          <a:prstGeom prst="roundRect">
            <a:avLst/>
          </a:prstGeom>
          <a:noFill/>
          <a:ln w="25560">
            <a:solidFill>
              <a:srgbClr val="0027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22400" y="6000840"/>
            <a:ext cx="8313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00279f"/>
                </a:solidFill>
                <a:latin typeface="Arial"/>
                <a:ea typeface="Arial"/>
              </a:rPr>
              <a:t>Bus Master provides your I/O Subsystem with Scalable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195720" y="344520"/>
            <a:ext cx="3776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OS Vendor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66840" y="90504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rosoft - Windows 95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CD Driver was submitted to MS for certification WW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dows 9x OPK2 Release in approx. June/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EMs should use MS driver in June/July timefra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rosoft - Windows NT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CD Driver was submitted to MS for certification WW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dows NT driver avail from MS in approx. Q1 ‘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Because of the extended timeframe above: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OEMs should use the Intel Driver now, 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then switch to Microsoft driver in Q1 ‘97 timefra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BM - OS/2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iver source code was submitted to OS/2 Driver Group WW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S/2 (Merlin) Release in Q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736640" y="5986440"/>
            <a:ext cx="6732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2000" spc="-1" strike="noStrike">
                <a:solidFill>
                  <a:srgbClr val="00279f"/>
                </a:solidFill>
                <a:latin typeface="Arial"/>
                <a:ea typeface="Arial"/>
              </a:rPr>
              <a:t>Marching toward long term goal of OS vendor ow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en-US" sz="2000" spc="-1" strike="noStrike">
                <a:solidFill>
                  <a:srgbClr val="00279f"/>
                </a:solidFill>
                <a:latin typeface="Arial"/>
                <a:ea typeface="Arial"/>
              </a:rPr>
              <a:t>and distributing driver in their general OS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66840" y="5857920"/>
            <a:ext cx="7696080" cy="914400"/>
          </a:xfrm>
          <a:prstGeom prst="roundRect">
            <a:avLst/>
          </a:prstGeom>
          <a:noFill/>
          <a:ln w="25560">
            <a:solidFill>
              <a:srgbClr val="0027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52680" y="878040"/>
            <a:ext cx="7367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System Trends toward Bus Mas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14560" y="1666800"/>
            <a:ext cx="8610480" cy="48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st Subsystems will continue to demand more throughput from the I/O Sub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 Mastering helps I/O to keep up with ever increasing system de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Multitasking Benchmarks will indicate capabiliti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 Mastering is part of MM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chnology Enab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 WinHEC presentatio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Partitioning the PC to Achieve a Balanced System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RL: http://www.intel.com/pc-supp/events/winhec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 Mastering is also a requirement for MPC3 system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ture Drive Technologies will continue to Bus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Drive technologies emphasize DMA (not CPU) to move driv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tasking OSs and scalable systems will drive thi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Pat Correia</dc:creator>
  <dc:description>Upgraded foilset w WinHEC andcorrelated benchmarks</dc:description>
  <dc:language>en-US</dc:language>
  <cp:lastModifiedBy>Patrick A. Correia</cp:lastModifiedBy>
  <cp:revision>0</cp:revision>
  <dc:subject>POR and Collateral Update for OEMs</dc:subject>
  <dc:title>Bus Master Driver Update- WW15</dc:title>
</cp:coreProperties>
</file>